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C66C-112B-44AC-9FC8-7E560E057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38280" y="434628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FAE8-A244-4BE1-A7F1-809501235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1824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FB67-A232-4914-9E96-FA9446C95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224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6656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43828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224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6656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6F5C-9024-4CB2-BE90-2911DC0A3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3773-BD5A-4DE2-9C61-CA079950EB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99DE-14AF-4577-9DF8-40D92F66E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97C9-7325-43D2-AB21-7897734F58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34F4-88CB-4F14-9257-3ADE6A1823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1337-983C-4C22-8082-DD2CEE4F21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3F8A-F41F-461D-9DF7-27BDEABFD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CAA8-3880-469E-84D8-AFC585BC3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44BD-4153-478C-A991-193EAAA74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824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38C1-62C3-453A-9636-1E16030D4C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C2FF-1FCE-402C-9868-8402F39DF9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438280" y="434628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576B-1F29-4E69-97F1-DDC8C3331A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71824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241F-D53C-4336-81D0-58AB7E1275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224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6656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43828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224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6656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D958-8A01-493C-B8DB-4C5E51899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10E1-6953-49D8-923C-3F962C438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480D-7516-4154-B3AC-AE6936E9A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6068-E770-41BA-87F6-BFF536DE0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7BBA-2EEC-4265-8FC2-4CB3C5439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1F31-CF98-4D43-AB78-A2CDA67FB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824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7EC8-D845-4092-88EA-F4544CDD2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E7CD-6D51-45DC-828E-399DB0613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83432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D87C-C6C0-40C8-B4EF-BAC0AD0E819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49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50760" tIns="50760" bIns="50760" anchor="ctr">
            <a:normAutofit fontScale="34000"/>
          </a:bodyPr>
          <a:p>
            <a:pPr marL="133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49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c36c03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c36c03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7580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B191-28B2-4E37-AA75-E0B39496132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good.org/assets/attachments/29.pdf" TargetMode="External"/><Relationship Id="rId3" Type="http://schemas.openxmlformats.org/officeDocument/2006/relationships/hyperlink" Target="http://www.keystosaferschools.com/Reports/Order%2520in%2520the%2520Classroom-Violence,%2520Discipline.pdf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2133720"/>
            <a:ext cx="6400800" cy="2628720"/>
          </a:xfrm>
          <a:prstGeom prst="rect">
            <a:avLst/>
          </a:prstGeom>
          <a:solidFill>
            <a:srgbClr val="ffffff">
              <a:alpha val="49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gative Effect on Student Development caused by the Lack of Discip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440" y="5562360"/>
            <a:ext cx="603396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50760" rIns="81360" tIns="50760" bIns="50760" anchor="ctr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Research Paper: EDU 702.22/Spr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Jacqueline Hol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References Continued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imi, Hunter. (2009). Academic Instructors or Moral Guides? Moral Education in America and the Teacher’s Dilemma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Clearing House,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2(3), 125-130. Retrieved from Academic Search Complete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60836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ble, R., Hester, P., Hester, L., Hendrickson, J., &amp; Sze, S. (2005). Cognitive, Affective, and Relational Dimensions of Middle School Students: Implications for Improving Discipline and Instruction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Clearing House: A Journal of Educational Strategies, Issues and Ide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79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1), 40. Retrieved from ERIC database: EJ7251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nton, Sue. (2008). The appeal(s) of character education in threatening times: caring and critical democratic responses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Comparative Education,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44(3), 305-316. Retrieved from Academic Search Complete:334186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81040" y="6248520"/>
            <a:ext cx="22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54F8-9A33-4ED1-98EF-A6AC97BDD03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5c"/>
                </a:solidFill>
                <a:latin typeface="Arial"/>
              </a:rPr>
              <a:t>Table of Cont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c58bf9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c58bf9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nstruc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c58bf9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’s: Character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c58bf9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’s: Charact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5c2f7d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5c"/>
                </a:solidFill>
                <a:latin typeface="Arial"/>
              </a:rPr>
              <a:t>Statement of Probl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iscipline not being effectively enforced within the school, as well as within the home, the learning environment is being challenged. Teachers constantly deal with disruptive behavior in a classroom, thereby taking away from the teaching time. For every disruptive student there is a decline in academic achievement, which in turn affects the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Review of Related Literature:</a:t>
            </a:r>
            <a:br>
              <a:rPr sz="2800"/>
            </a:b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Prior Research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400800" cy="528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ever, the public perception is that student behavior is out of contro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monsen, B., Sugai, G., &amp; Negron, M. 2008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pay a heavy price academically when schools tolerate the chornic bad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ublic Agend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you have order and civility, not much learning will go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arton,Paul E; Coley, Richard J; and Wenglinsky, Harold.1998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ents zeal and tenacity to excel sometimes become side tracked by distractions and disruptions in the classroo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ith,Charles J.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Review of Related Literature:</a:t>
            </a:r>
            <a:br>
              <a:rPr sz="2800"/>
            </a:b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Current Instructional Strategies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Mediation: “empowers students to work out differences constructively and work towards solu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Varnham, Sally.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wide Positive Behavior Supports: “systems-level approach that enables schools to effectively and efficiently support student behavior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monsen, B., Sugai, G., &amp; Negron, M. 200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DE: plan for success, read, improve your grades, develop your character, enjoy your d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nks, Clarisse Butler.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Statement of the Hypothesi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mplementing character education in P.S X, twice a week over a six week period, not only will a positive and safe environment occur but academic achievement will 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ypothesis will be tested through classroom observations, test scores and daily informal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Pro’s: Character Education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eachers stress social skills in the classroom and create a climate of cooperation and respect for others, there are fewer discipline problems and less negative behavior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cArthur,Janice R.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aining knowledge of internal factors as well as external factors, we can respond more effectively to the problem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ble, Robert; Hester, Peggy; Hester, Larry; Hendrickson, Jo-Mary; Sze, Susan.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education promotes academic excellence because it lays a foundation for all learning that takes place in school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nton, Sue.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15960" y="624852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3BA7-4D7F-48C9-9D65-87933FBDB0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1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Con’s: Character Education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st: Lawrence Kohl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69369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Stages of Mor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evelop their moral judgement in sequenced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499"/>
              </a:spcBef>
              <a:buClr>
                <a:srgbClr val="693690"/>
              </a:buClr>
              <a:buSzPct val="68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telling kids how to act, rely on the students to discover how to act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rimi,Hunter.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5960" y="624852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0C4E-7CE0-458F-95B2-B7D6EC9A88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19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142640"/>
            <a:ext cx="6400800" cy="53211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Simonsen, B., Sugai, G., &amp; Negron, M. (2008). Schoolwide Positive Behavior Supports: Primary Systems and Practices. </a:t>
            </a:r>
            <a:r>
              <a:rPr b="0" lang="en-US" sz="1300" spc="-1" strike="noStrike">
                <a:solidFill>
                  <a:srgbClr val="333333"/>
                </a:solidFill>
                <a:latin typeface="Arial Italic"/>
                <a:ea typeface="Arial Italic"/>
              </a:rPr>
              <a:t>TEACHING Exceptional Children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US" sz="1300" spc="-1" strike="noStrike">
                <a:solidFill>
                  <a:srgbClr val="333333"/>
                </a:solidFill>
                <a:latin typeface="Arial Italic"/>
                <a:ea typeface="Arial Italic"/>
              </a:rPr>
              <a:t>40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(6), 32-40. Retrieved from ERIC database:EJ85266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Public Agenda, and Common Good. (2004). Teaching Interrupted: Do Discipline Policies in Today’s Public Schools Foster the Common Good? </a:t>
            </a:r>
            <a:r>
              <a:rPr b="0" lang="en-US" sz="1300" spc="-1" strike="noStrike">
                <a:solidFill>
                  <a:srgbClr val="333333"/>
                </a:solidFill>
                <a:latin typeface="Arial Italic"/>
                <a:ea typeface="Arial Italic"/>
              </a:rPr>
              <a:t>Public Agenda.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Retrieved from: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mmongood.org/assets/attachments/29.pd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Barton,Paul E; Coley, Richard K; and Wenglinsky, Harold. (1998). Order in the Classroom:Violence, Discipline and Student Achievement. </a:t>
            </a:r>
            <a:r>
              <a:rPr b="0" lang="en-US" sz="1300" spc="-1" strike="noStrike">
                <a:solidFill>
                  <a:srgbClr val="333333"/>
                </a:solidFill>
                <a:latin typeface="Arial Italic"/>
                <a:ea typeface="Arial Italic"/>
              </a:rPr>
              <a:t>Policy Information Center:Research Division.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Princeton, NJ:Educational Testing Service. Retrieved from Key to Saferschool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keystosaferschools.com/Reports/Order%20in%20the%20Classroom-Violence,%20Discipline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ith, Charles J. (2001). School Discipline and Classroom Management: A Must for Improved Instruction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Walden University Cyberspace Chapter of PDK Internationa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Retrieved from Walden PDK on March 19, 2010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http://waldenpdk.org/newsletters/Smith_SchoolDiscipl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rnham, Sally. (2005)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ing Things Differently: Restorative Justice and School Discipline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Education and the Law,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(3), 87-104. Retrieved from ERIC database: EJ8201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tler-Banks, Clarisse. (February, 4 2010). PRIDE in school and self: Waterloo Middle School uses character education to improve academics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New York Teacher,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(9), 18-19. Retrieved from New York Teacher pub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cArthur, Janice R. (2002). They Why, What, and How of Teaching Children Social Skills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Social Studi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93(4), 183-185. Retrieved from ERIC database:EJ77013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7DDB-7920-4EDB-B6BD-FC4489FA0B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/>
  <cp:revision>0</cp:revision>
  <dc:subject/>
  <dc:title>Slide 1</dc:title>
</cp:coreProperties>
</file>